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8C6-071B-4735-96C7-8CAB370D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203-AF8C-4925-84D6-F2C87ABD5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5BE7-2594-41E7-922F-3088EBB23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44F-B226-43C5-A40A-3E3DAC55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5CB-7F11-451D-B0F1-05A710C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DCC-CD47-4396-8847-BADD45F6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328-5347-4A2A-83EE-B3ED0B78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5B9-B874-488F-826E-C3CD120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AE4-9B45-4C04-B97E-D31FAA7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C59-A9F3-473F-84A6-6B3AE1A2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5F0-F0F8-44C6-96AE-31D3B440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56D-4F17-46C6-9574-69BC7E80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5F4-81BB-43B4-BF02-8F07B950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744-4F6E-4BE5-AFCC-E84659B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322-66BA-4914-8D67-760618C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DB66-C6B0-4D32-8C80-53E30CFFF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Switches - Catalyst 29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00200" y="358128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 To see what images are available, set your default view to “Outline” form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2960S-48F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2960S-48L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2960S-48L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C2960S-48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C2960S-48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C2960S-48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ic 19in 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eneric_19in_Rack.emf"/>
          <p:cNvPicPr/>
          <p:nvPr/>
        </p:nvPicPr>
        <p:blipFill>
          <a:blip r:embed="rId1"/>
          <a:stretch/>
        </p:blipFill>
        <p:spPr>
          <a:xfrm>
            <a:off x="3887640" y="888840"/>
            <a:ext cx="1368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WS-C2960S_Rear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2960S-24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2960S-24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2960S-24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2960S-24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2960S-24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2960S-48F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0:31:31Z</dcterms:created>
  <dc:creator>brenewma</dc:creator>
  <dc:description/>
  <dc:language>en-US</dc:language>
  <cp:lastModifiedBy>brenewma</cp:lastModifiedBy>
  <dcterms:modified xsi:type="dcterms:W3CDTF">2011-03-21T20:37:52Z</dcterms:modified>
  <cp:revision>1</cp:revision>
  <dc:subject/>
  <dc:title>Slide 1</dc:title>
</cp:coreProperties>
</file>